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4DEC-2AD7-4177-B68E-FB1B833AB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C885-A10A-4E85-94EE-0EC01A72B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B5A5-5871-45FC-8EEC-B69C1802D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6E69-8ADD-4887-A92F-A397C5807C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79BD-D519-4B93-BCB5-8065A86187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CCE8-72A8-44FA-A4C7-21459656D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9B1C-617D-4EAF-8D5D-6F1E073ED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CC73-B48D-4B5E-A1B5-C3F079B0F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A940-DBE4-4341-BF9B-380E28B3C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91AA-5A14-4447-B207-A09823B4B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ED5F-6849-4362-B56F-05FDE9905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E26A-7C02-4D87-922C-772AB1942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095200" y="6400800"/>
            <a:ext cx="25848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CA58-5777-4F68-8A5D-4B8EDC6ED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249800" y="1825560"/>
          <a:ext cx="6870600" cy="1112760"/>
        </p:xfrm>
        <a:graphic>
          <a:graphicData uri="http://schemas.openxmlformats.org/drawingml/2006/table">
            <a:tbl>
              <a:tblPr/>
              <a:tblGrid>
                <a:gridCol w="3435120"/>
                <a:gridCol w="3435480"/>
              </a:tblGrid>
              <a:tr h="37152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</a:tr>
              <a:tr h="37116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pic>
        <p:nvPicPr>
          <p:cNvPr id="41" name="Picture 2" descr="Picture 2"/>
          <p:cNvPicPr/>
          <p:nvPr/>
        </p:nvPicPr>
        <p:blipFill>
          <a:blip r:embed="rId1"/>
          <a:stretch/>
        </p:blipFill>
        <p:spPr>
          <a:xfrm>
            <a:off x="-133200" y="0"/>
            <a:ext cx="12325320" cy="69912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Рисунок 4"/>
          <p:cNvPicPr/>
          <p:nvPr/>
        </p:nvPicPr>
        <p:blipFill>
          <a:blip r:embed="rId2"/>
          <a:stretch/>
        </p:blipFill>
        <p:spPr>
          <a:xfrm>
            <a:off x="254160" y="4695840"/>
            <a:ext cx="979200" cy="1744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08080" y="193680"/>
            <a:ext cx="330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 Домодедовский  лицей №3 имени Героя Советского Союза  Ю.П. Макси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3510000" y="1565280"/>
            <a:ext cx="867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Творческие работы  обучающихся как один из видов домашнего за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4483080" y="3786120"/>
            <a:ext cx="687060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Бокарева Татьяна Владимировна</a:t>
            </a: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, молодой специалист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 </a:t>
            </a: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МАОУ Домодедовского лицея №3 им. Героя Советского Союза Ю.П.Максим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23840" y="331560"/>
            <a:ext cx="9659880" cy="36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38880" y="5184720"/>
            <a:ext cx="4383360" cy="75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«Как не стать жертвой мошенника? История, основанная на реальных событиях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а основе «Мертвых душ» Гогол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бъект 8"/>
          <p:cNvSpPr/>
          <p:nvPr/>
        </p:nvSpPr>
        <p:spPr>
          <a:xfrm>
            <a:off x="7704000" y="5460840"/>
            <a:ext cx="3094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919080" y="2147760"/>
            <a:ext cx="49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Задание заключается в пересказе или написании отдельного фрагмента, целого произведения или представлении правила русского языка в стиле официального документа, статьи, научного сообщения или шок-контента – моделирование чрезвычайной ситуации, которая может вызвать «шок» у очевидце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2" descr=""/>
          <p:cNvPicPr/>
          <p:nvPr/>
        </p:nvPicPr>
        <p:blipFill>
          <a:blip r:embed="rId2"/>
          <a:stretch/>
        </p:blipFill>
        <p:spPr>
          <a:xfrm>
            <a:off x="6280200" y="1730520"/>
            <a:ext cx="5342040" cy="32353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1378800" y="13780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Шок-конт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20720" y="77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40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Критерии оценки творческих работ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05000" y="1385640"/>
            <a:ext cx="57830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Важно помнить, что оценка творческих работ должна отличаться от оценки традиционных домашних заданий. Основное внимание следует уделя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Picture 6"/>
          <p:cNvPicPr/>
          <p:nvPr/>
        </p:nvPicPr>
        <p:blipFill>
          <a:blip r:embed="rId2"/>
          <a:stretch/>
        </p:blipFill>
        <p:spPr>
          <a:xfrm>
            <a:off x="7159680" y="4900680"/>
            <a:ext cx="159228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Picture 10"/>
          <p:cNvPicPr/>
          <p:nvPr/>
        </p:nvPicPr>
        <p:blipFill>
          <a:blip r:embed="rId3"/>
          <a:stretch/>
        </p:blipFill>
        <p:spPr>
          <a:xfrm>
            <a:off x="6558120" y="1165320"/>
            <a:ext cx="4673520" cy="269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Picture 14"/>
          <p:cNvPicPr/>
          <p:nvPr/>
        </p:nvPicPr>
        <p:blipFill>
          <a:blip r:embed="rId4"/>
          <a:stretch/>
        </p:blipFill>
        <p:spPr>
          <a:xfrm>
            <a:off x="9290160" y="3624120"/>
            <a:ext cx="2421000" cy="25527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"/>
          <p:cNvSpPr/>
          <p:nvPr/>
        </p:nvSpPr>
        <p:spPr>
          <a:xfrm>
            <a:off x="2428920" y="2905200"/>
            <a:ext cx="2315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Оригин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774680" y="3935520"/>
            <a:ext cx="2707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5"/>
          <a:stretch/>
        </p:blipFill>
        <p:spPr>
          <a:xfrm>
            <a:off x="1978200" y="4756320"/>
            <a:ext cx="3809880" cy="6397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973080" y="3732120"/>
            <a:ext cx="2606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Содержа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5454720" y="2905200"/>
            <a:ext cx="196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Кре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7" descr=""/>
          <p:cNvPicPr/>
          <p:nvPr/>
        </p:nvPicPr>
        <p:blipFill>
          <a:blip r:embed="rId6"/>
          <a:stretch/>
        </p:blipFill>
        <p:spPr>
          <a:xfrm>
            <a:off x="5146560" y="2905200"/>
            <a:ext cx="341280" cy="237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"/>
          <p:cNvPicPr/>
          <p:nvPr/>
        </p:nvPicPr>
        <p:blipFill>
          <a:blip r:embed="rId7"/>
          <a:stretch/>
        </p:blipFill>
        <p:spPr>
          <a:xfrm>
            <a:off x="4417920" y="3935520"/>
            <a:ext cx="341280" cy="237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"/>
          <p:cNvPicPr/>
          <p:nvPr/>
        </p:nvPicPr>
        <p:blipFill>
          <a:blip r:embed="rId8"/>
          <a:stretch/>
        </p:blipFill>
        <p:spPr>
          <a:xfrm>
            <a:off x="2165400" y="2911320"/>
            <a:ext cx="341280" cy="236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9"/>
          <a:stretch/>
        </p:blipFill>
        <p:spPr>
          <a:xfrm>
            <a:off x="620640" y="3743280"/>
            <a:ext cx="3412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1" descr=""/>
          <p:cNvPicPr/>
          <p:nvPr/>
        </p:nvPicPr>
        <p:blipFill>
          <a:blip r:embed="rId10"/>
          <a:stretch/>
        </p:blipFill>
        <p:spPr>
          <a:xfrm>
            <a:off x="1749600" y="4900680"/>
            <a:ext cx="34128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249800" y="1825560"/>
          <a:ext cx="6870600" cy="1112760"/>
        </p:xfrm>
        <a:graphic>
          <a:graphicData uri="http://schemas.openxmlformats.org/drawingml/2006/table">
            <a:tbl>
              <a:tblPr/>
              <a:tblGrid>
                <a:gridCol w="3435120"/>
                <a:gridCol w="3435480"/>
              </a:tblGrid>
              <a:tr h="37152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</a:tr>
              <a:tr h="37116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2" descr="Picture 2"/>
          <p:cNvPicPr/>
          <p:nvPr/>
        </p:nvPicPr>
        <p:blipFill>
          <a:blip r:embed="rId1"/>
          <a:stretch/>
        </p:blipFill>
        <p:spPr>
          <a:xfrm>
            <a:off x="0" y="-133200"/>
            <a:ext cx="12325320" cy="6991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Рисунок 4"/>
          <p:cNvPicPr/>
          <p:nvPr/>
        </p:nvPicPr>
        <p:blipFill>
          <a:blip r:embed="rId2"/>
          <a:stretch/>
        </p:blipFill>
        <p:spPr>
          <a:xfrm>
            <a:off x="254160" y="4695840"/>
            <a:ext cx="979200" cy="17445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208080" y="193680"/>
            <a:ext cx="330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 Домодедовский  лицей №3 имени Героя Советского Союза  Ю.П. Макси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Picture 16"/>
          <p:cNvGrpSpPr/>
          <p:nvPr/>
        </p:nvGrpSpPr>
        <p:grpSpPr>
          <a:xfrm>
            <a:off x="7562880" y="860400"/>
            <a:ext cx="4017960" cy="2506680"/>
            <a:chOff x="7562880" y="860400"/>
            <a:chExt cx="4017960" cy="2506680"/>
          </a:xfrm>
        </p:grpSpPr>
        <p:sp>
          <p:nvSpPr>
            <p:cNvPr id="145" name="Прямоугольник"/>
            <p:cNvSpPr/>
            <p:nvPr/>
          </p:nvSpPr>
          <p:spPr>
            <a:xfrm>
              <a:off x="7562880" y="860400"/>
              <a:ext cx="4017960" cy="250668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image21.jpeg" descr="image21.jpeg"/>
            <p:cNvPicPr/>
            <p:nvPr/>
          </p:nvPicPr>
          <p:blipFill>
            <a:blip r:embed="rId3"/>
            <a:srcRect l="6114" t="17549" r="8322" b="0"/>
            <a:stretch/>
          </p:blipFill>
          <p:spPr>
            <a:xfrm>
              <a:off x="7562880" y="860400"/>
              <a:ext cx="4017960" cy="250668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  <a:effectLst>
              <a:outerShdw dist="18000" dir="54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147" name="Рисунок 14" descr="Рисунок 14"/>
          <p:cNvPicPr/>
          <p:nvPr/>
        </p:nvPicPr>
        <p:blipFill>
          <a:blip r:embed="rId4"/>
          <a:stretch/>
        </p:blipFill>
        <p:spPr>
          <a:xfrm>
            <a:off x="3762360" y="2949480"/>
            <a:ext cx="2631960" cy="2833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5"/>
          <p:cNvSpPr/>
          <p:nvPr/>
        </p:nvSpPr>
        <p:spPr>
          <a:xfrm>
            <a:off x="5703840" y="4133880"/>
            <a:ext cx="367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6" descr="Рисунок 16"/>
          <p:cNvPicPr/>
          <p:nvPr/>
        </p:nvPicPr>
        <p:blipFill>
          <a:blip r:embed="rId5"/>
          <a:stretch/>
        </p:blipFill>
        <p:spPr>
          <a:xfrm>
            <a:off x="8321760" y="4159080"/>
            <a:ext cx="476280" cy="5637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Рисунок 17"/>
          <p:cNvPicPr/>
          <p:nvPr/>
        </p:nvPicPr>
        <p:blipFill>
          <a:blip r:embed="rId6"/>
          <a:stretch/>
        </p:blipFill>
        <p:spPr>
          <a:xfrm>
            <a:off x="8321760" y="4854600"/>
            <a:ext cx="476280" cy="5824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Рисунок 18"/>
          <p:cNvPicPr/>
          <p:nvPr/>
        </p:nvPicPr>
        <p:blipFill>
          <a:blip r:embed="rId7"/>
          <a:stretch/>
        </p:blipFill>
        <p:spPr>
          <a:xfrm>
            <a:off x="8340840" y="5556240"/>
            <a:ext cx="457200" cy="455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9"/>
          <p:cNvSpPr/>
          <p:nvPr/>
        </p:nvSpPr>
        <p:spPr>
          <a:xfrm>
            <a:off x="8970840" y="4159080"/>
            <a:ext cx="31752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7(496)793-50-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omodlicei3.edumsko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vk.com/lycei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5440" y="30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1440" y="2055600"/>
            <a:ext cx="4122720" cy="32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Способность понимать  прекрасное  умом и сердцем наиболее успешно развивается тогда, когда ребёнок активно воссоздаёт художественные образы в своём воображении при восприятии произведений искусств, одновременно участвуя в доступных ему формах художественной деятельности»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        </a:t>
            </a: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А.В. Запороже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Picture 6"/>
          <p:cNvPicPr/>
          <p:nvPr/>
        </p:nvPicPr>
        <p:blipFill>
          <a:blip r:embed="rId2"/>
          <a:stretch/>
        </p:blipFill>
        <p:spPr>
          <a:xfrm>
            <a:off x="7102440" y="4003560"/>
            <a:ext cx="1882800" cy="188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Picture 10"/>
          <p:cNvPicPr/>
          <p:nvPr/>
        </p:nvPicPr>
        <p:blipFill>
          <a:blip r:embed="rId3"/>
          <a:stretch/>
        </p:blipFill>
        <p:spPr>
          <a:xfrm>
            <a:off x="5394240" y="1217520"/>
            <a:ext cx="4673520" cy="269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Picture 14"/>
          <p:cNvPicPr/>
          <p:nvPr/>
        </p:nvPicPr>
        <p:blipFill>
          <a:blip r:embed="rId4"/>
          <a:stretch/>
        </p:blipFill>
        <p:spPr>
          <a:xfrm>
            <a:off x="9466200" y="3862440"/>
            <a:ext cx="2421000" cy="255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Picture 2"/>
          <p:cNvPicPr/>
          <p:nvPr/>
        </p:nvPicPr>
        <p:blipFill>
          <a:blip r:embed="rId5"/>
          <a:stretch/>
        </p:blipFill>
        <p:spPr>
          <a:xfrm>
            <a:off x="9658440" y="1601640"/>
            <a:ext cx="169524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5360" y="-69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39400" y="1856880"/>
            <a:ext cx="57834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19240" indent="-219240">
              <a:lnSpc>
                <a:spcPct val="81000"/>
              </a:lnSpc>
              <a:spcBef>
                <a:spcPts val="901"/>
              </a:spcBef>
              <a:buClr>
                <a:srgbClr val="2f5597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2600" spc="-1" strike="noStrike">
                <a:solidFill>
                  <a:srgbClr val="2f5597"/>
                </a:solidFill>
                <a:latin typeface="Constantia"/>
                <a:ea typeface="Constantia"/>
              </a:rPr>
              <a:t>Традиционные домашние задания, как правило, направлены на закрепление изученного материала, проверку усвоения знаний и отработку навыков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1000"/>
              </a:lnSpc>
              <a:spcBef>
                <a:spcPts val="901"/>
              </a:spcBef>
              <a:buClr>
                <a:srgbClr val="2f5597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2600" spc="-1" strike="noStrike">
                <a:solidFill>
                  <a:srgbClr val="2f5597"/>
                </a:solidFill>
                <a:latin typeface="Constantia"/>
                <a:ea typeface="Constantia"/>
              </a:rPr>
              <a:t>Решение задач по образцу, переписывание текстов, ответы на вопросы — всё это необходимо, но недостаточно для полноценного развития лич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Picture 2"/>
          <p:cNvPicPr/>
          <p:nvPr/>
        </p:nvPicPr>
        <p:blipFill>
          <a:blip r:embed="rId2"/>
          <a:stretch/>
        </p:blipFill>
        <p:spPr>
          <a:xfrm>
            <a:off x="7964640" y="2124000"/>
            <a:ext cx="34574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-104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3482640" y="1211400"/>
            <a:ext cx="55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Творческие домашни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27160" y="25290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овышают мотивацию к обуч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919080" y="4390920"/>
            <a:ext cx="36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азвивают креативное мыш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8129160" y="291780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Формируют навыки самовыра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2664720" y="580392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омогают раскрыть индивидуальные таланты и 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6000120" y="454644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пособствуют развитию критического мыш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7" descr=""/>
          <p:cNvPicPr/>
          <p:nvPr/>
        </p:nvPicPr>
        <p:blipFill>
          <a:blip r:embed="rId2"/>
          <a:stretch/>
        </p:blipFill>
        <p:spPr>
          <a:xfrm>
            <a:off x="2079720" y="3481560"/>
            <a:ext cx="6453000" cy="447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6337440" y="2190600"/>
            <a:ext cx="422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азвивают навыки самоорганизации и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0" descr=""/>
          <p:cNvPicPr/>
          <p:nvPr/>
        </p:nvPicPr>
        <p:blipFill>
          <a:blip r:embed="rId3"/>
          <a:stretch/>
        </p:blipFill>
        <p:spPr>
          <a:xfrm>
            <a:off x="9721800" y="1195560"/>
            <a:ext cx="1527120" cy="15285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"/>
          <p:cNvPicPr/>
          <p:nvPr/>
        </p:nvPicPr>
        <p:blipFill>
          <a:blip r:embed="rId4"/>
          <a:stretch/>
        </p:blipFill>
        <p:spPr>
          <a:xfrm>
            <a:off x="2395440" y="5886360"/>
            <a:ext cx="343080" cy="236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"/>
          <p:cNvPicPr/>
          <p:nvPr/>
        </p:nvPicPr>
        <p:blipFill>
          <a:blip r:embed="rId5"/>
          <a:stretch/>
        </p:blipFill>
        <p:spPr>
          <a:xfrm>
            <a:off x="5729400" y="4622760"/>
            <a:ext cx="347400" cy="2318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0" descr=""/>
          <p:cNvPicPr/>
          <p:nvPr/>
        </p:nvPicPr>
        <p:blipFill>
          <a:blip r:embed="rId6"/>
          <a:stretch/>
        </p:blipFill>
        <p:spPr>
          <a:xfrm>
            <a:off x="1811160" y="3548160"/>
            <a:ext cx="343080" cy="234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3" descr=""/>
          <p:cNvPicPr/>
          <p:nvPr/>
        </p:nvPicPr>
        <p:blipFill>
          <a:blip r:embed="rId7"/>
          <a:stretch/>
        </p:blipFill>
        <p:spPr>
          <a:xfrm>
            <a:off x="571680" y="4618080"/>
            <a:ext cx="347400" cy="231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4" descr=""/>
          <p:cNvPicPr/>
          <p:nvPr/>
        </p:nvPicPr>
        <p:blipFill>
          <a:blip r:embed="rId8"/>
          <a:stretch/>
        </p:blipFill>
        <p:spPr>
          <a:xfrm>
            <a:off x="7854840" y="2995560"/>
            <a:ext cx="347760" cy="231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5" descr=""/>
          <p:cNvPicPr/>
          <p:nvPr/>
        </p:nvPicPr>
        <p:blipFill>
          <a:blip r:embed="rId9"/>
          <a:stretch/>
        </p:blipFill>
        <p:spPr>
          <a:xfrm>
            <a:off x="6075360" y="2311560"/>
            <a:ext cx="347760" cy="231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6" descr=""/>
          <p:cNvPicPr/>
          <p:nvPr/>
        </p:nvPicPr>
        <p:blipFill>
          <a:blip r:embed="rId10"/>
          <a:stretch/>
        </p:blipFill>
        <p:spPr>
          <a:xfrm>
            <a:off x="849240" y="2614680"/>
            <a:ext cx="347760" cy="1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520" y="-878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1676520" y="1498680"/>
            <a:ext cx="36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ложности и пути их преодо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541520" y="2817720"/>
            <a:ext cx="428472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ехватка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едостаток ресур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Опасения учителей по поводу объективности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противление уче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Picture background"/>
          <p:cNvPicPr/>
          <p:nvPr/>
        </p:nvPicPr>
        <p:blipFill>
          <a:blip r:embed="rId2"/>
          <a:stretch/>
        </p:blipFill>
        <p:spPr>
          <a:xfrm>
            <a:off x="5940360" y="2602080"/>
            <a:ext cx="43642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256440" y="5267160"/>
            <a:ext cx="2139840" cy="8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100" spc="-1" strike="noStrike">
              <a:solidFill>
                <a:srgbClr val="2f5597"/>
              </a:solidFill>
              <a:latin typeface="Constantia"/>
              <a:ea typeface="Constantia"/>
            </a:endParaRPr>
          </a:p>
        </p:txBody>
      </p:sp>
      <p:sp>
        <p:nvSpPr>
          <p:cNvPr id="87" name="Объект 8"/>
          <p:cNvSpPr/>
          <p:nvPr/>
        </p:nvSpPr>
        <p:spPr>
          <a:xfrm>
            <a:off x="663480" y="1720800"/>
            <a:ext cx="50896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676520" y="-93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2872440" y="1406520"/>
            <a:ext cx="73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оль учителя в стимулировании творч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430960" y="2316240"/>
            <a:ext cx="60958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здавать благоприятную атмосферу для творчества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поддерживать учеников, поощрять их идеи, не критиковать за ошиб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редоставлять возможность выбора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давать ученикам возможность выбирать темы, формы и методы выполнения зада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Быть вдохновителем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предлагать интересные идеи, показывать примеры хороших работ, вдохновлять учеников на творче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Оценивать не только результат, но и процесс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обращать внимание на то, как ученик работал над заданием, как он искал решения, какие трудности он преодол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2"/>
          <a:stretch/>
        </p:blipFill>
        <p:spPr>
          <a:xfrm>
            <a:off x="779400" y="2438280"/>
            <a:ext cx="4359240" cy="29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090080" y="664812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100" spc="-1" strike="noStrike">
              <a:solidFill>
                <a:srgbClr val="2f5597"/>
              </a:solidFill>
              <a:latin typeface="Constantia"/>
              <a:ea typeface="Constantia"/>
            </a:endParaRPr>
          </a:p>
        </p:txBody>
      </p:sp>
      <p:sp>
        <p:nvSpPr>
          <p:cNvPr id="95" name="Прямая соединительная линия 9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738440" y="-125280"/>
            <a:ext cx="10515600" cy="132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</a:t>
            </a: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1611360" y="144936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здание профиля литературного героя или писателя в социальных сет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Picture background"/>
          <p:cNvPicPr/>
          <p:nvPr/>
        </p:nvPicPr>
        <p:blipFill>
          <a:blip r:embed="rId2"/>
          <a:stretch/>
        </p:blipFill>
        <p:spPr>
          <a:xfrm>
            <a:off x="3352680" y="2833560"/>
            <a:ext cx="74851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1363320" y="158760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исьмо литературному гер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7128000" y="1476360"/>
            <a:ext cx="4155840" cy="47768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347840" y="2433600"/>
            <a:ext cx="50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Данный прием - один из видов творческой работы, который провожу после изучения произведения. Ученики сами определяют, кому из героев они пишут письмо. Данный прием позволяет объединить работу по развитию речи с развитием творческого мышления учащихся. Ученик должен суметь выразить свое отношение к герою через его поступки, характер, поведение, дать положительную или отрицательную характеристику персонаж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17800" y="-1497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69880" y="1609560"/>
            <a:ext cx="4910400" cy="435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Литература в роли рекламного конт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804960" y="3038400"/>
            <a:ext cx="609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Ученикам предлагается разработать рекламу для литературного произведения с учетом его особенностей и требований к рекламному продукту в настоящее время. Данное задание может включать в себя вариативный набор элементов и форм выполнения. Оно может быть выполнено в форме буклета, презентации, афиши, статьи в интерн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7230960" y="1293840"/>
            <a:ext cx="3821040" cy="531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УМЦ</cp:lastModifiedBy>
  <dcterms:modified xsi:type="dcterms:W3CDTF">2025-03-25T12:16:14Z</dcterms:modified>
  <cp:revision>16</cp:revision>
  <dc:subject/>
  <dc:title>Презентация PowerPoint</dc:title>
</cp:coreProperties>
</file>